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C0D-F7CF-4685-89AD-4D79D6E0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FD5C-5644-4968-B25F-43937D44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E18-275B-42C9-98F2-3EF3AB15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5C7-6CE1-40D9-AD27-1A2A5FA6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0785-6BD1-41B3-A466-8B16460C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F1C8-53D6-4F53-972D-BED82D73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E238-2A99-4DF8-955E-E49B4488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8B03-DACA-46F4-9A2F-CCE566F6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BAAB-ACEB-43CD-9B58-9C7B844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EEC-CCC4-4696-A4D1-A38E8C3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C33-2F26-44FC-9F57-3C6697A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B24-4D81-4C92-8460-8C44AE13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EF9-8AE6-4237-AC99-6366D25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7034-9E92-46C6-ABF0-6150FD22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7BFA-679B-4839-9925-A05F55C5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A05-8A03-4679-8DD3-CB1E4197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910E-376D-4A03-ADCA-A3698BF9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2DA-E4F8-47E0-BBD1-C4F4F5CE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181-7776-4CAE-9FB0-957F690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F82-E54D-4882-8243-8570029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0E0-52C5-4143-B5E2-3874F59F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5BA-4731-4C89-8568-00551265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C263-7699-4AB3-804D-07C2B2E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2297-0EC1-43FF-9C31-4C36FAF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A482-599A-4ECF-A995-F995D48B62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AF0C-4596-46B9-9F1F-8B1D02403D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Sometimes size </a:t>
            </a:r>
            <a:r>
              <a:rPr b="1" i="1" lang="en-US" sz="4800" spc="-1" strike="noStrike">
                <a:solidFill>
                  <a:srgbClr val="b2b2b2"/>
                </a:solidFill>
                <a:latin typeface="Arial"/>
              </a:rPr>
              <a:t>do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matte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f you’re one in a million in China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re are 1,300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there are 1,100 people just like you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25% of the population in China with the highest IQ’s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s greater than the total population of North America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India, it’s the top 28%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ranslation for teachers: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y have more honors kids than we have ki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hina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will soon become the number on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nglish speak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ountry in the world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514600"/>
            <a:ext cx="88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8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3000 students in 28 schools province-wide who have been issued notebook computers.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872720"/>
            <a:ext cx="89917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you took every single job in North America today and shipped it to China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China would still have a labor surplu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uring the course of this 8 minute presentation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1066680"/>
            <a:ext cx="7696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5 babies will be born in Canad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60 babies will be born in the U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244 babies will be born in Ch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351 babies will be born in Ind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Department of Labor estimates that today’s learner will hav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-14 job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…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…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by ag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38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ccording to the </a:t>
            </a:r>
            <a:br>
              <a:rPr sz="4800"/>
            </a:b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epartment of Labor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2 workers today is working for a company they have been employed by for less than one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 out of 3 are working for a company they have worked for for less than five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ccording to former U.S. Secretary of Education     Richard Riley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ll of them were purchased using public fund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op 10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in-demand jobs in 2010 didn’t exist in 2005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e are currently preparing students for jobs that don’t yet exist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Using technologies that haven’t been invented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order to solve problems we don’t even know are problems y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Name this country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6094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Richest in the Worl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Largest Milit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enter of world business and fin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Strongest education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World center of innovation and inven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urrency the world standard of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Highest standard of li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England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n 1900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U.S. is 20</a:t>
            </a:r>
            <a:r>
              <a:rPr b="1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world in broadband Internet penetration.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b2b2b2"/>
                </a:solidFill>
                <a:latin typeface="Arial"/>
              </a:rPr>
              <a:t>(Luxembourg just passed them.)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0"/>
            <a:ext cx="8763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500 new LCD projectors in New Brunswick schools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n 2002 alone Nintendo invested more than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40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research and developmen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Canadian and U.S. Federal Governments together spen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ess than half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at much on Research and Innovation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1 out of every 8 couples married in Canada last yea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et onlin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6 m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registered users of MySpace.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June 2006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8001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f My Space were a country, it would be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</a:t>
            </a:r>
            <a:r>
              <a:rPr b="1" lang="en-US" sz="44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large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world, between Japan and Mex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e are living in </a:t>
            </a: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exponential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time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over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2.7 b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searches performed on Google each month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o whom were these questions addressed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.G.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?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(Before Google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number of text messages sent and received every da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population of the plane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848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They were purchased  with public funds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re are abou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40,000 wor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English languag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About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5 time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as many as during Shakespeare’s time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More than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3,000 new book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are published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aily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’s estimated that a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ek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’s worth of New York Times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18288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ontains more information than a person was likely to come across in a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lifetim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in the 18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entur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estimated tha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.5 exabyte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(that’s 1.5 x 10</a:t>
            </a:r>
            <a:r>
              <a:rPr b="1" lang="en-US" sz="4400" spc="-1" strike="noStrike" baseline="30000">
                <a:solidFill>
                  <a:srgbClr val="b2b2b2"/>
                </a:solidFill>
                <a:latin typeface="Arial"/>
              </a:rPr>
              <a:t>18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) of unique new information will be generated worldwide this yea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estimated to be more than in the previou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5,000 year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81532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amount of new technical information i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doubling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every 2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means for a student starting a four-year technical or college degree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st schools in New Brunswick hava a wireless network running right now (802.11 a/b/g)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of what they learn in their first year of study will b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outdat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y their third year of study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It’s predicted to double every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72 hours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by 2010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ird generation fiber optics has recently been separately tested by NEC and Alcatel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 pushe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0 trillio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bits per second down one strand of fib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at’s 1,900 CDs or 150 million simultaneous phone calls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very secon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It’s currently tripling about ever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6 month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and is expected to do so for at least the next 20 year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fiber is already there, they’re just improving the switches on the ends. Which means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marginal cost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of these improvements is effectively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0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08 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-paper will be cheaper than real pape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47 million</a:t>
            </a: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 laptops were shipped worldwide last year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4000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$100 laptop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project is expecting to ship between 50 and 100 million laptops a year to children in underdeveloped countri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Over 7000 teachers have accepted the Department of Education’s offer and have received notebook computers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13 a supercomputer will be built that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s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omputation capability of the Human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rain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6000">
    <p:fade thruBlk="true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By 2023, a $1,000 computer will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apabilities of the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Human Brain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irst grader Abby will be just 23 years old and beginning her (first) career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nd while technical predictions farther out than about 15 years are hard to do . . 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redictions are that by 2049 a $1,000 computer will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exceed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the computational capabilities of the </a:t>
            </a: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uman race</a:t>
            </a: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9000"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What does it all mean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Shift Happens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Now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know . . 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13000"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Did </a:t>
            </a: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you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know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1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2b2b2"/>
                </a:solidFill>
                <a:latin typeface="Arial"/>
              </a:rPr>
              <a:t>Teachers can access their network files from ANY school in the provinc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Arial"/>
              </a:rPr>
              <a:t>Did you know . . 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ITS</dc:creator>
  <dc:description/>
  <dc:language>en-US</dc:language>
  <cp:lastModifiedBy>jeff.whipple</cp:lastModifiedBy>
  <dcterms:modified xsi:type="dcterms:W3CDTF">2007-03-11T23:34:48Z</dcterms:modified>
  <cp:revision>86</cp:revision>
  <dc:subject/>
  <dc:title>AHS has 249 new computers this fall. </dc:title>
</cp:coreProperties>
</file>